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2AD5-F83F-4F68-9834-72AB7BD1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0BA1-850E-47A0-8BBC-3EF6C638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1D404-DCE4-401F-8D89-656B80FB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10ABE-FFCB-41B7-894A-435A0358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518F5-283C-46C8-B8C4-3EE65609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70DA7-6209-45FF-8087-104045B6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152BB-DDC3-493E-A8D0-4614AFC3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F8DDE-F53E-4D0F-8B79-A1AB320A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C28C9-89AF-4CDC-AEA6-B1336809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1526D-B490-4F4B-8EC5-46587809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902D7-9479-4649-9D48-01878570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3F43B-B3E6-4D52-AF6C-66A3BF80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F65B-666C-4637-A6A8-2B4299B2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13C69-858B-4914-9CF9-E89FB7AE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2D689-E47D-4E69-B4ED-CCB77252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58622-593B-4708-B030-FFBACF73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F5EA2-E176-4BE7-8BB0-5ADB8893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A9D1A-D774-4854-A722-47A07EA9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95F66-87A0-44C1-B14D-C0C06D31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B738A-42C2-4774-BFE4-6E8B4A56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E2114-75B3-47A7-91B5-10337E41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D664A-AF45-49CE-8F99-54F4AE66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69EA6-BCD3-4798-99F1-2B47FAE6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4AB-CCE0-45AB-931C-8146FF7B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52B85-CB0D-4728-B692-871AB78C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2EA44-A20D-4B25-A9ED-8A4DC6D0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6A09B-D9BE-42D8-AA52-348E49A4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43FA1-13B7-4F19-9F5C-503125B7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80F8A-1932-4D9E-A757-7BB2E3E9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3E531-37C0-48A0-BCD7-9D424180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68907-7523-485E-8D88-A021D2A2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B9F42-E6DA-4AB4-9CF3-71269634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93E20-7CAB-4FD2-A53A-8646B895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6AE60-36E2-4F53-82F5-2E07B3BB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C296-021A-426A-AAA2-E06212F9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9E6D0-82DB-4775-A667-8322198A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42733-3E83-4ED3-9A96-6A893FF5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45502-248B-4FE7-9442-1549CAD8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DDF3C-7924-4BBD-952F-437DF99C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5B576-80EE-439D-8716-FCFC572A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8A59F-F55B-4379-815C-2BBD7BD4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56AEA-BD0E-4B12-9F26-3BA5B29E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05C35-808A-4F95-A5C1-55E038A3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64969-1CEF-40AD-9952-31846BBC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9472B-9382-40DC-A58E-0C75F634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ECA3-49B0-415B-A1AE-81BF8F51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28106-AAC5-4E72-8829-4CBFDA6E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D2643-FDC5-4DEC-93E9-8D1134F8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7D818-2D51-4B56-8A90-4A44E627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96E04-B49E-4B6F-894E-9D770C74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562AF-3851-44FA-B911-685DAADF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F11AAB-037B-490E-A939-7C693EE1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2E6674-EBF4-4B8E-A388-4475FE68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2E739A-9A1E-47FD-975A-600FBE08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7C58D-106C-4A23-B2D8-8D0AA9B7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2AA213-FD48-4AB6-BB35-E38E374C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0444-D3E7-40F8-803D-65943670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A487E6-9EB2-46DB-8570-82DDE24D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426F0B-C188-4057-A977-FD6E33E2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CE1455-3BB0-41D6-9FF3-D41386FF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FF669-4093-4771-B1E0-7673B30A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544604-5996-4D50-9A85-5770F1B1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4761F1-8F50-4449-8833-82C9AE16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548FDC-2772-4133-961A-6ACAFE26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B8D01B-56D5-4234-9C2F-08E93683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8B3F07-7A6E-4F68-9D20-88B767F9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4A6CC6-58DF-4371-87F6-19986007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1C53-CA53-4BA4-9D42-EA6C4C79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89D14F-EFD3-4255-B507-D409AAAC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020999-8746-4564-9C99-A7A57CEA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804548-3835-4882-8EC8-3287CFC9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00C01D-948A-4362-A0BB-CC3E4556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D098F5-E7FA-46AC-95D6-AFCED71B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0D8BF3-9F4C-4F1C-AECC-E8827DF0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7A21B0-9191-4994-8360-58746636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4E223E-830C-4391-902C-896B49AE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C2A0A6-A227-4C55-9EE8-43D9F6DC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EC67A1-9BB0-48A2-AD0C-4D7E1BCC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ECCB-B8C8-49AC-A7DB-AB474190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8F68B9-3D30-4B58-AB2C-59443337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64F1D6-447A-4C23-96F0-10A7F1D7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F9D3F4-BADB-4137-9BB1-E3CD5EFD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257A34-A3B3-4C72-AB86-53A0D664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0910C0-645A-4A1B-915F-CEEC3450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612E66-4063-415D-97FD-CFE34195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E9652F-E552-42FB-84EB-C8BF1715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C31483-E4DE-4D90-BEB4-98116ADC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3C522A-0463-4860-AE15-C7FFB47E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682072-E77B-4707-B1C2-15C82EF5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18DB-2D55-420D-B361-9394C131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877C74-8A86-4596-9F8A-4A66CFCF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644AED-1A8C-40C2-9544-4769DA9B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D22D0F-6812-4C93-8E36-B785D990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D79EBA-731B-4F1C-82C2-297E3364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FE47A5-A6E3-485A-8A3E-E7BCD0A7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927E4A-068C-4D68-9F7B-098535E7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BA4931-30A3-4004-9E5B-2821FF9A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5AC3FE-599E-45B5-AC19-3CDD0693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C2DDC1-02F6-406C-AAD9-2DEE28A3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F1AEA3-E6CB-4108-BBFE-E5E7A258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7BC9-A684-4B7E-8BB1-4F048814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5322AA-E976-433D-B1D4-1423F974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D5686E-4D4D-4412-BCBB-D6A3A93A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01521B-1CAF-4272-B9A5-0F6266F5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5C97A9-7AD9-4427-A2AE-4F69E0A0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6CF085-4EC2-473A-B699-C889330F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F484E2-7EA1-400A-8CC7-B37AA7D4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DED387-767B-4812-9044-BA425DF5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F1C270-26E5-45FE-8AB1-6932A5B4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2108BF-ACFB-49E7-9052-E5165865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3D9022-D8EA-4724-8BB5-875235E6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EF0-BE52-497A-85BD-8FE1A416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E283-D143-474C-8ACF-07D35544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CFAF6C-1CBB-4B5B-BDA0-53A77AC5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1F1A9A-4B30-4D98-BD62-F94CC99E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4F018A-5E40-44E8-9762-6746AC43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0A7CA1-D936-45D5-A21B-51ED7DD5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678047-5CA1-42C5-9DD0-73A98803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E421FD-0958-486D-BCD5-32EFBD82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3FE35E-89C9-4AE4-946D-DBFA44B0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12B64F-99DE-42CE-B8F7-DEAE9BF8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9A15FF-57C2-4C58-BEDE-80AEC340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281B0C-DD83-45AD-A300-97C33064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24CD-A3E1-4469-805B-DF661E35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F5DEED-0242-4828-AA8D-1376FE2D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BD82AF-B24F-422D-87D2-767BFDA3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679E6E-2820-4991-88A2-BA8DFF35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B22688-E881-4FAB-AF93-921DA84F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B8E672-284D-4AC9-A399-D13C63E2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91182D-00AA-46D4-A4E1-6F3EC7FB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259C89-DDEA-4FB7-A642-D656AFD3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99A994-6454-4B86-9616-0F163214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45440A-4027-425C-825F-52405A31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734BA2-8D8F-4C9B-B0AB-33B3B69B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A00A-FD37-4B3D-94DD-6CEFA50F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4C932D-46E6-4A82-AC84-C739A793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A43D37-9619-4345-966F-988A0FB4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4AF932-C24E-4E30-9903-9D36B91C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A07057-87E8-4416-8680-CAAC2F5A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7148C2-6F63-47B5-B9CC-CE6433F8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BC5230-D79E-4279-B4DD-19FCB5A6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C5FE4E-5085-4A16-8CD9-2FB8C974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9D1DF3-4B32-41F7-8E45-834C3EC2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F0FFCA-689D-4490-AFEF-28AD41F1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B89498-3365-496F-A066-EA07D72C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EAA3-219F-40A7-A2A8-CFF0C245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7C6188-E42C-4594-8FAE-1E9D8C55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D49347-1226-4091-A82D-1A11C0F1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FD8628-098B-4026-8E7D-9569D69F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56326B-68B5-4FD1-BF16-C092B749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785C37-AB36-4D26-A15E-050D1F21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502298-1BE9-43B6-A04D-AF433932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C30A40-0583-44DC-A094-74153053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62A246-5A4D-4234-87D8-B3201988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F50A93-C6CB-4177-A7AD-F3C58372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F4ECB2-1AE3-462E-95EC-4BFD8458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154F-481E-486F-9CA5-338AA3B3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358392-5B52-4B05-9E0C-2A03D85A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9FECB7-3C33-4DE5-A52B-E3D36A4B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63993A-1C4B-4D24-8898-06BBE441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57941B-E147-4134-B8AD-3D84FD1A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0499A1-A476-4F8F-B82C-17A7A609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28045B-274C-4CCD-8417-3F842871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EC8F35-73FC-4521-B3D9-8AA065F3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1CB3CF-2572-4DBB-8859-5F6B79AF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D88959-673F-4B73-834D-17A04C60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9F4D41-EE53-4B50-A249-ED5B83CD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BB9A1-DE9F-4B60-A857-C4A27D1C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2C0B5A-76B1-4CE7-8D04-B2CE12D2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660410-529B-43CE-A236-08A18E1E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5F1D5D-E105-4049-BD7C-580BF639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A6A7F6-7E18-4E96-A6C8-C4D4BC25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DBF50C-BA2D-4025-9001-A49A5B90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4AFB2D-0BCF-4A9A-B28D-A1BCABCA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0A2A22-6EC6-427D-84CD-6EC768BF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CFF4C1-A409-4065-9556-AC5906F0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D1F7D2-DE4B-40F5-982A-EA3D03B0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D56BFC-6853-40DE-8143-99E96E49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BDC84-7110-403E-8F91-2A2FBFA6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EFE719-4A36-49FF-8141-BF2A30C1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CDBD11-B24E-4A6B-8D65-86275044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9BF9F2-9AA0-4A06-94ED-337C71C8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1CBA9A-5202-4560-8408-9F2E573F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957F7D-242A-4658-9366-39865CFD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E7533F-2332-4164-A84F-FA53D6AE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A7456F-8D2C-4516-84F8-6113F59C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1AC7BB-75AB-4A81-9CAE-F9AB2710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79F16D-A3C3-4B7A-A6DE-7217E110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AE4187-ABA1-4D8F-B6A2-3F9437BF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6D70A-BBA1-46A3-B55B-E958E174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510936-6D9F-4285-9C18-059278DD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AFA552-607C-4BCB-8E58-3B0E1F15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735988-FE84-4DBE-80FA-89A66C75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5E880F-1B26-4923-BE69-B504F3CE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23A7DF-F3B1-46F7-AA49-59C0B710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82D920-0630-405F-8330-B10D6B74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EDDAD3-1A39-4125-A9C6-B296B418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CFB4D-E6AD-43F8-B724-9CB10A17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A0FD4-9E12-4955-8318-E9EE2942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166-F42E-462E-8D2C-1A712D88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0CDC3-660B-403B-9EDD-53C6E27A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5B0AB-C502-4E38-BA3A-17F5F224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123AF-1516-4A55-89C2-DAFF4782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C69A8-0DD9-4B0F-94E8-04E4490B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3F15C-D32D-47AA-B590-C456E809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8A441-F989-4BD9-9866-23474BC9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D5792-F84A-4A9F-B066-505E32FC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E229D-5747-46B0-A796-C2B9AD90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1514F-E3A4-4229-9A62-0D08A5EA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71C4D-BC9F-4138-A322-ECA1E7B0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1717-9B9B-4ACD-B257-2EEC451B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C3E54-D8FB-4F3A-A28B-807A4681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41078-7125-4DC5-AE00-C96A2704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BCA11-C7AD-491A-86BA-049EF5C2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40E74-0C0E-43E1-9CC7-D966DBCA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305B6-5CA8-49A5-95F9-42FDF27C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C673B-0DFF-437D-AF4E-D38B8CD2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7A4EE-EC80-4B0C-9516-8C8CC299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61BA4-83F1-49B4-BF5B-671D5A5E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16C52-1D30-4DFC-94CE-1F5F35AA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69E0B-84E6-44C3-B2AD-B92862A1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9157-A155-4CB3-A0BC-A4473206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490EA-DB5C-4992-B0FA-DB11AC4D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A8AA6-DE48-4F58-864E-10569626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CD4B1-5903-4D63-A25E-A25B8BC7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BEEE8-8E3C-4DF6-BB0D-35B892F0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40641-D61B-4811-8479-810D9ADE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FE018-376F-4724-8E28-40D92890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2D32C-9753-433D-838E-636CF212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7F5AF-B754-4E4F-8E56-8786E41C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F29E5-B853-47BB-815A-2F8397EE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5C67A-30EE-4ED8-94D6-CEA8FBF6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0527-98F1-41BF-BC5B-B2D415CF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367E0-D3D3-43CC-BFEC-7F1416B2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E3875-E13C-4BEF-9D80-B0694517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E9377-12B3-4291-BD18-9FEC4993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A93B7-AA4F-4C9B-AA99-0FD0DD81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6870B-7298-4D4A-BD3D-BA5BAC40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31C00-D149-4D9F-8C9D-B137A4FC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D4E4D-92B4-4139-A77E-E6F0AB9F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91138-8937-481F-A7D1-16251600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7CC14-4726-4FD0-965B-A1F71348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8E3D6-032D-4373-8416-B8364599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A136-84AE-4DDF-A882-A040E89E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7B494-EC6F-40AB-A60C-9B940CD2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867CB-6A3E-4CD1-89C1-CD5B298C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A0F11-583F-4D7C-99B4-AC3CA170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083FB-8E37-4C38-862D-2B702D53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B2075-563B-45C0-BCDE-B789F5A2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0C884-9858-4AEC-8D10-313DA061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21ACA-2643-4683-A100-3DBC2C6D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5D487-D7F9-481C-90B4-FEED7B69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57F29-735A-4109-8001-8ECEAB18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565CD-13D9-4B0B-BC76-FD698609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7F4F-1B71-4287-822B-AC38ECB0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8E260-2EDB-466F-846C-9D788938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26F06-CBA3-44FD-A8F9-9F9C7C4D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1617A-CA4E-4E44-8380-B19E3C9E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7D89A-7EE3-49DC-BCF3-B55AC235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451C5-854C-4AAC-95C2-80D1A229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48BDF-8761-4187-9239-88342914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29161-49F5-4895-B12B-2D3B1A58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E5A5E-2949-46FF-A04E-F0C23D1A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B26A8-7C40-433C-898E-DAA10B77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6B197-19B3-4464-B05F-1335B533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13B2-4978-4B47-B94F-96E78F90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5A335-78D2-4B28-A00B-1E51CF9F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9E5F8-67BC-4F92-AEF3-81E9F336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EC723-3C6A-4992-A4BE-7C9B1AE4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7BA56-78DA-49FB-B924-AE92C8E0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4E1C5-9D21-4927-B00E-27C949FF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6E8DA-7A93-418F-ACC9-FB403BAB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9A648-321A-4DF1-ADA6-B566108E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DE44D-5FEB-47F6-A620-28F8DE40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A0300-1A88-4485-9E0E-E3BDB332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6885E-8C8E-4B22-A81D-B81D87EA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F8D5-2B2B-4D91-AD2C-5903FB633C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010F-5049-4C3B-AD59-D17EC5E4AF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EB83-6F44-4A7B-827E-5A3E288A24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8546-C324-49B2-B1E7-E950EC75F0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70E6-F2ED-41AB-B1F2-B80AF5F689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6E13-36D8-4D8B-BCCC-7BF950A158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399D-EF85-4C4D-A26B-A871C7A853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7B5C-AD41-47D5-BD7A-1CF83E5980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3189-BC78-4365-A0F7-2BB1E90D85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8F79-2A98-4008-9AC4-949A469FD1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2CA7-80A0-4CEB-BA0A-64F5DFF71D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BC81-9799-46F1-A9DD-727C437A58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0021-7E54-412E-A881-48CB550A22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CD0C-6A30-4D25-AEE6-56E79BBAFB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A469-A0F6-47BD-9967-352230E287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F01B-A8AF-4236-950F-CD4DA4CF0D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6F67-DFBA-4079-B156-FE56015D0C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98B5-A3A1-46D1-B6F0-17F1D22291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275A-D1E1-4D84-807B-F495A60F05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6E01-02D3-492F-A0E1-BC84C18913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0A75-4F65-4F1E-9192-6E23A53ADC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FF51-49D4-4A6C-B19A-84D61E8BED8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1532-69FF-4E79-AD25-9BA3611085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D24A-79B0-4776-A3BD-6475E8F8F7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A72D-D6B6-46A0-982B-88D19D942D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A56C-EEE1-4B05-9E6D-3BD3A0EE1C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F00D-157D-4559-8B63-7A145514A0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CB99-968D-4F80-873D-8E6D4FAC7D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89E0-B332-4555-9FB7-FE71B100B4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D624-2183-4D80-82B0-C800C12A95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91AD-593D-4221-9A16-2F378B8A87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F49C-654E-4E8F-A44E-3E42B16F2F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A182-D675-4291-96A5-62EDAFDF95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2CCB-6D2B-4987-853C-F5FC6B625F5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8710-1059-4A52-A9F1-E4973CBC73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397A-94A5-45AF-8AF1-6B3CCC6537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C0CA-94B1-4668-8249-B8EA7DE015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0185-B1B1-4A39-9A6B-85CCF33165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7359-3D68-425F-844C-A85B9C12EC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7170-FE57-4B79-8A43-2E64318251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E46C-82A8-49EE-B31E-004972C82B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F0C9-62F1-475D-920F-210296D0BD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871640" y="3019320"/>
            <a:ext cx="54007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36440" y="1562040"/>
            <a:ext cx="7866000" cy="258912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3" descr=""/>
          <p:cNvPicPr/>
          <p:nvPr/>
        </p:nvPicPr>
        <p:blipFill>
          <a:blip r:embed="rId2"/>
          <a:stretch/>
        </p:blipFill>
        <p:spPr>
          <a:xfrm>
            <a:off x="81000" y="4216320"/>
            <a:ext cx="8980560" cy="17049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395280" y="332280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324000" y="4230720"/>
            <a:ext cx="360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图片 1" descr=""/>
          <p:cNvPicPr/>
          <p:nvPr/>
        </p:nvPicPr>
        <p:blipFill>
          <a:blip r:embed="rId1"/>
          <a:stretch/>
        </p:blipFill>
        <p:spPr>
          <a:xfrm>
            <a:off x="181080" y="2347920"/>
            <a:ext cx="8781840" cy="21621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2"/>
          <a:stretch/>
        </p:blipFill>
        <p:spPr>
          <a:xfrm>
            <a:off x="468360" y="234936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3"/>
          <a:stretch/>
        </p:blipFill>
        <p:spPr>
          <a:xfrm>
            <a:off x="468360" y="3213000"/>
            <a:ext cx="360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357120" y="819000"/>
            <a:ext cx="8427960" cy="522000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4356000" y="1268280"/>
            <a:ext cx="1440000" cy="2905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1979640" y="1700280"/>
            <a:ext cx="647640" cy="2905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6877080" y="1700280"/>
            <a:ext cx="647640" cy="2905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3348000" y="2152800"/>
            <a:ext cx="1368360" cy="2905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6"/>
          <a:stretch/>
        </p:blipFill>
        <p:spPr>
          <a:xfrm>
            <a:off x="1528920" y="2584440"/>
            <a:ext cx="882360" cy="2905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7"/>
          <a:stretch/>
        </p:blipFill>
        <p:spPr>
          <a:xfrm>
            <a:off x="3564000" y="2584440"/>
            <a:ext cx="882720" cy="2905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8"/>
          <a:stretch/>
        </p:blipFill>
        <p:spPr>
          <a:xfrm>
            <a:off x="2124000" y="3016080"/>
            <a:ext cx="882720" cy="2905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9"/>
          <a:stretch/>
        </p:blipFill>
        <p:spPr>
          <a:xfrm>
            <a:off x="2627280" y="3914640"/>
            <a:ext cx="649440" cy="2905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10"/>
          <a:stretch/>
        </p:blipFill>
        <p:spPr>
          <a:xfrm>
            <a:off x="5435640" y="4346640"/>
            <a:ext cx="1008000" cy="2905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11"/>
          <a:stretch/>
        </p:blipFill>
        <p:spPr>
          <a:xfrm>
            <a:off x="3986280" y="4788000"/>
            <a:ext cx="649080" cy="2905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12"/>
          <a:stretch/>
        </p:blipFill>
        <p:spPr>
          <a:xfrm>
            <a:off x="2050920" y="5229360"/>
            <a:ext cx="1008360" cy="2905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13"/>
          <a:stretch/>
        </p:blipFill>
        <p:spPr>
          <a:xfrm>
            <a:off x="2843280" y="5661000"/>
            <a:ext cx="576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" descr=""/>
          <p:cNvPicPr/>
          <p:nvPr/>
        </p:nvPicPr>
        <p:blipFill>
          <a:blip r:embed="rId1"/>
          <a:stretch/>
        </p:blipFill>
        <p:spPr>
          <a:xfrm>
            <a:off x="90360" y="947880"/>
            <a:ext cx="8961480" cy="49622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2"/>
          <a:stretch/>
        </p:blipFill>
        <p:spPr>
          <a:xfrm>
            <a:off x="1979640" y="1806480"/>
            <a:ext cx="720720" cy="2905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3"/>
          <a:stretch/>
        </p:blipFill>
        <p:spPr>
          <a:xfrm>
            <a:off x="4859280" y="1798560"/>
            <a:ext cx="720720" cy="2905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4"/>
          <a:stretch/>
        </p:blipFill>
        <p:spPr>
          <a:xfrm>
            <a:off x="539640" y="2679840"/>
            <a:ext cx="720720" cy="2905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5"/>
          <a:stretch/>
        </p:blipFill>
        <p:spPr>
          <a:xfrm>
            <a:off x="2340000" y="2679840"/>
            <a:ext cx="720720" cy="2905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6"/>
          <a:stretch/>
        </p:blipFill>
        <p:spPr>
          <a:xfrm>
            <a:off x="2124000" y="3557520"/>
            <a:ext cx="2664000" cy="2905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7"/>
          <a:stretch/>
        </p:blipFill>
        <p:spPr>
          <a:xfrm>
            <a:off x="2124000" y="4413240"/>
            <a:ext cx="2879640" cy="2905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8"/>
          <a:stretch/>
        </p:blipFill>
        <p:spPr>
          <a:xfrm>
            <a:off x="1258920" y="5307120"/>
            <a:ext cx="936720" cy="2905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9"/>
          <a:stretch/>
        </p:blipFill>
        <p:spPr>
          <a:xfrm>
            <a:off x="3203640" y="5307120"/>
            <a:ext cx="936720" cy="29052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10"/>
          <a:stretch/>
        </p:blipFill>
        <p:spPr>
          <a:xfrm>
            <a:off x="5076720" y="5310360"/>
            <a:ext cx="122400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34:32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